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43B-98B6-426D-AA09-56BF7DA4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AB2-98EE-4EAA-A01B-A079E2C0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832-0997-489D-AA67-55E672C0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F39-23C2-4C3F-B309-B07290C0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C8D-32E4-45E0-9B11-A65F0F1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336-9B7F-49BA-8324-50D30D8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9B0-CCD4-4381-834E-BC81696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445-5F66-4CB5-86D3-C37B04E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3CD-F226-4DE3-904D-BEDFDF4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865-BECE-422C-9846-82FE1E8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8EE-6B65-4B63-AC64-F04C6A1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C12-16C7-48EC-A3FA-8CB296E4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93A-A4D9-4453-B079-40B5880CC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&#1052;&#1086;&#1081;&#1076;&#1086;&#1076;&#1099;&#1088;_(&#1087;&#1077;&#1088;&#1089;&#1086;&#1085;&#1072;&#1078;)" TargetMode="External"/><Relationship Id="rId5" Type="http://schemas.openxmlformats.org/officeDocument/2006/relationships/hyperlink" Target="http://ru.wikipedia.org/wiki/&#1050;&#1088;&#1086;&#1082;&#1086;&#1076;&#1080;&#1083;_(&#1087;&#1077;&#1088;&#1089;&#1086;&#1085;&#1072;&#1078;)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304920"/>
            <a:ext cx="750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НЕЙ ИВАНОВИЧ ЧУКОВС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2827080" cy="35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876920" y="2057400"/>
            <a:ext cx="318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Е СКАЗ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486600">
            <a:off x="4419720" y="3580920"/>
            <a:ext cx="10760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798400">
            <a:off x="5105520" y="4190760"/>
            <a:ext cx="106668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435600">
            <a:off x="5866920" y="3733560"/>
            <a:ext cx="10573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241400">
            <a:off x="6324120" y="4648320"/>
            <a:ext cx="101916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21070800">
            <a:off x="7086600" y="3657240"/>
            <a:ext cx="9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 ПИСАТЕ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ковский Корней Иванович (1882-1969), настоящее имя и фамилия Николай Васильевич Корнейчуков, русский писатель, поэт, переводчик, литературов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19 (31) марта 1882 в Санкт-Петербурге. Отцом являлся Эммануил Соломонович Левенсон, в семье которого жила прислугой мать Корнея Чуко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Чуковского в области детской литературы закономерно вывела его на изучение детского языка, первым исследователем которого он стал. Это стало его настоящим увлечением — психика детей и то, как они овладевают реч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ходят его знаменитые сказки «Мойдодыр» и «Тараканище» (1923), «Муха-Цокотуха» (1924), «Бармалей» (1925), «Телефон» (1926) — непревзойденные шедевры литературы «для маленьких», издающиеся до сих пор, так что можно сказать, что уже в этих сказках Чуковский успешно использовал знание детского восприятия мира и родной речи. Он записал свои наблюдения за детьми, за их словесным творчеством в книге «Маленькие дети» (1928), получившую затем название «От двух до пяти» (1933)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ир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ки... Произнося эти слова, мы в мгновение ока переносимся в волшебный мир де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ные К.И.Чуковским сказки в стихах остроумные, занимательные, не лишённые назидания быстро нашли дорогу к сердцам маленьких «читателей». Сказки развивают в детях творческие способности, вкус и любовь к художественному слову, учат отличать добро от зла, проявлять сочувствие и состр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Мойдоды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0" y="152280"/>
            <a:ext cx="13161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56480" y="5029200"/>
            <a:ext cx="14875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5105520"/>
            <a:ext cx="145080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914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доды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етская сказка в стихах Корнея Чукотского, названная по имени одного из её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на, по словам самого Чуковского, в 192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905120"/>
            <a:ext cx="831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ствование ведётся от лица мальчика, от которого внезапно начинают убегать его вещи. Появившийся говорящий умывальник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йдоды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ает мальчику, что вещи сбежали от него из-за того, что тот грязнуля. По приказу Мойдодыра щётки и мыло набрасываются на мальчика и начинают его мыть. Мальчик вырывается и выбегает на улицу, однако за ним в погоню отправляется мочалка. Гуляющий по улиц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рокод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роглатывает мочалку, после чего угрожает мальчику, что проглотит и его, если тот не умоется. Мальчик бежит умываться к радости Мойдодыра, после чего вещи возвращаются к нему. Заканчивается стихотворение гимном чистоте. Интересный факт: в советских изданиях фраза "Боже, боже, что случилось?" была заменена цензурой на "Что такое? Что случилось?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йболи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йбол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детская сказка в стихах Корнея Чуковского, одно из наиболее знаменитых детских сочинений автора. Опубликована в 1929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 Айболит отправляется в Африку, чтобы лечить заболевших зверей шоколадом и гоголем-моголе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3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5-04T06:5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